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D1D-59B7-40A1-AF35-7CDB06F0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D8C-5C57-4CBD-9B06-05492ED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9E1-7A41-42F5-84D5-7452C47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EAC-6E9D-4298-B310-AB430ADD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A1C4-B29B-4AE0-BDB2-EAD717BA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6414-ADAC-466C-9EE2-D6FD9614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7C25-8C6C-4938-AE3C-A944207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7457-D993-45F1-A880-CFCA9209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26E-76E1-4703-83C7-2E6D2E7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B74A-8141-4B63-974A-20EFB453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2DAE-01CC-478B-A94D-7F73408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CF9-86CF-454B-89F3-5221B2E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AD0-25F8-4B75-B521-47C20ED7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672A-12AC-446D-A8B6-3365F982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3A4A-D632-4974-9899-0C504F95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89D-1B43-46B7-AC48-09371D3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07C1-A850-43F3-80C4-BFE526F5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892-BCDF-4F3C-A7D8-DC0DD58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5A8-7828-47C7-96CE-423444C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CAC-D7FA-4589-9C8E-254C7CB8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81D-2816-4F95-9325-3E6F5F6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82-8449-4165-A3CB-A369D249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A46-F5A0-4C84-9E6F-FD5D387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4BD-D443-4D86-98EB-E705DFB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B36A-F03F-4EE1-8357-25AB08AABF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B54-4517-4995-A732-807721D7E1B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Tabla unei opera</a:t>
            </a:r>
            <a:r>
              <a:rPr b="0" lang="ro-RO" sz="5400" spc="-1" strike="noStrike">
                <a:solidFill>
                  <a:srgbClr val="ffffcc"/>
                </a:solidFill>
                <a:latin typeface="Monotype Corsiva"/>
              </a:rPr>
              <a:t>ţ</a:t>
            </a: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Se aplică pentru legile de compoziţie definite pe mulţimi fin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cc"/>
                </a:solidFill>
                <a:latin typeface="Monotype Corsiva"/>
              </a:rPr>
              <a:t>Noţiuni teoretic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90512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Fie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o mulţime. Spunem că operaţia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’ este lege de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poziţie definită pe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x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acă oricare ar fi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şi y din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vem că x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y aparţine lui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prietăţ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 asociativitat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 comutativitat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element neut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element simetrizab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0"/>
                <a:ext cx="1522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Aplicaţi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1.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1,2,3,4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pentru 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max(x,y) şi identificaţi proprietăţ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97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este comutativ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are element neutru pe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toate elementele sunt simetrizabile adic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’=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’=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’=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’=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62040" y="1905120"/>
          <a:ext cx="3333600" cy="375588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2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2,3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,4,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şi identificaţi proprietăţil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pentru </a:t>
            </a:r>
            <a:br>
              <a:rPr sz="2800"/>
            </a:b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restul împărţirii lui xy la 6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4560" y="2276640"/>
            <a:ext cx="412416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comut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re element neutru pe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,2,3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şi 4 nu sunt simetrizabile doar 1 şi 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’=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’=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62040" y="2205000"/>
          <a:ext cx="3549600" cy="362268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4720"/>
                <a:gridCol w="507960"/>
                <a:gridCol w="50652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2,3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,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şi identificaţi proprietăţil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pentru 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x-y|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24560" y="1905120"/>
            <a:ext cx="419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 este asociativ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ă pentru că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4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2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comutativ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e element neutru pe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ate elementele sunt simetrizabile adic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’=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’=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’=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’=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’=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2040" y="1905120"/>
          <a:ext cx="3046320" cy="368460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6520"/>
                <a:gridCol w="507960"/>
                <a:gridCol w="50796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Pe mulţime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={1,2,3,4,5,6}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se defineşte legea de compoziţie cu următoarele proprietăţi: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x:y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, dacă x se divide prin y,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y:x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, dacă  y se divide prin x,</a:t>
            </a:r>
            <a:br>
              <a:rPr sz="2400"/>
            </a:br>
            <a:r>
              <a:rPr b="0" i="1" lang="ro-RO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x-y|</a:t>
            </a:r>
            <a:r>
              <a:rPr b="0" i="1" lang="ro-RO" sz="2400" spc="-1" strike="noStrike">
                <a:solidFill>
                  <a:srgbClr val="ffffcc"/>
                </a:solidFill>
                <a:latin typeface="Times New Roman"/>
              </a:rPr>
              <a:t> , 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în caz contr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2360" cy="38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 este asociativ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ă pentru că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≠2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3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comutativ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e element neutru pe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ementele sunt simetrizabile dar nu au simetric un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62040" y="2060640"/>
          <a:ext cx="3478320" cy="3889440"/>
        </p:xfrm>
        <a:graphic>
          <a:graphicData uri="http://schemas.openxmlformats.org/drawingml/2006/table">
            <a:tbl>
              <a:tblPr/>
              <a:tblGrid>
                <a:gridCol w="496800"/>
                <a:gridCol w="496800"/>
                <a:gridCol w="497160"/>
                <a:gridCol w="496800"/>
                <a:gridCol w="496800"/>
                <a:gridCol w="496800"/>
                <a:gridCol w="49716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99360" cy="17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ţie 5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e mul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und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\{0}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1/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-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-1/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împreună cu operaţia de compunere a funcţiilo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cătuiţi tabla operaţiei şi identificaţi proprietăţile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2707920"/>
            <a:ext cx="397980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comutativă deşi în general compunerea funcţiilor nu este comut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re element neutru pe f</a:t>
            </a:r>
            <a:r>
              <a:rPr b="0" lang="ro-RO" sz="2800" spc="-1" strike="noStrike" baseline="-25000">
                <a:solidFill>
                  <a:srgbClr val="eaeaea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toate elementele sunt simetrizab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2708280"/>
          <a:ext cx="3333600" cy="358452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59:18Z</dcterms:created>
  <dc:creator>cursant</dc:creator>
  <dc:description/>
  <dc:language>en-US</dc:language>
  <cp:lastModifiedBy>cursant</cp:lastModifiedBy>
  <dcterms:modified xsi:type="dcterms:W3CDTF">2010-09-03T07:38:21Z</dcterms:modified>
  <cp:revision>5</cp:revision>
  <dc:subject/>
  <dc:title>Tabla unei operaţii</dc:title>
</cp:coreProperties>
</file>